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B1E-012E-42B6-8ADC-1C9795B6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999-F55C-4DAA-863E-7E5C22A8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3B8-EB61-40EA-B9DF-2FAB92D8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A36-D894-4DB5-9C80-D4721BFC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3E1-CABB-4179-AC8B-5CD2ED85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68A-29C8-4A96-8AA8-03768235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163-92F2-4750-973A-783D256D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61CC-A259-418A-94F3-ADD63AA8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E15-7FB8-44BC-9071-EBE808FA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42A-903C-4BED-A17D-7E860E83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5D1-8C94-4896-A5B2-5542390C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A16D-334D-4049-91D5-3FDB2519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7A63-FB90-451B-924E-FB9CAC1DC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freeplaymusic.com/" TargetMode="Externa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eb.mit.edu/invent/iow/cooper.html" TargetMode="External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457200" cy="442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380880"/>
            <a:ext cx="73152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ll-O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4800600"/>
            <a:ext cx="2971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holas 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7/2011 9:52:04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3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32448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 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ser Bla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8-Dec-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14600" y="4952880"/>
            <a:ext cx="1981080" cy="147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449568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Peter Co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Cooper"/>
          <p:cNvPicPr/>
          <p:nvPr/>
        </p:nvPicPr>
        <p:blipFill>
          <a:blip r:embed="rId2"/>
          <a:srcRect l="10005" t="6057" r="10005" b="0"/>
          <a:stretch/>
        </p:blipFill>
        <p:spPr>
          <a:xfrm>
            <a:off x="304920" y="685800"/>
            <a:ext cx="3886200" cy="472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5254560"/>
            <a:ext cx="289548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ell-O, December 1, 2011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cooper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Peter Cooper he Patented Jell-O in 184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 rot="10800000">
            <a:off x="5486400" y="6490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rcRect l="509" t="24865" r="17070" b="7633"/>
          <a:stretch/>
        </p:blipFill>
        <p:spPr>
          <a:xfrm>
            <a:off x="4191120" y="304920"/>
            <a:ext cx="5181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ed in 1845 by Peter Coo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patented it ,but he didn’t commercializ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old the Patent to Pearl Wait who developed fruit versions of gelat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wife came up with the name Jell-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ll-O  was sold once more to Francis Woodward in 1897,and he heavily commercialized Jell-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06 Jell-O reached sales of one million doll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6781680"/>
          <a:ext cx="162000" cy="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781680"/>
                    <a:ext cx="16200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 txBox="1"/>
          <p:nvPr/>
        </p:nvSpPr>
        <p:spPr>
          <a:xfrm>
            <a:off x="0" y="0"/>
            <a:ext cx="914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Invention: Jell-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495680" y="1523880"/>
            <a:ext cx="39546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oper was born in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 was born on February 12, 179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 grew up in Peekskill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oper mastered skills in mason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 helped build the first steam powered locomo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 was known for a variety of i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ter Cooper died on April 4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, 188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14400"/>
            <a:ext cx="7238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Inventor: Peter Cooper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rcRect l="0" t="26610" r="20977" b="0"/>
          <a:stretch/>
        </p:blipFill>
        <p:spPr>
          <a:xfrm>
            <a:off x="7086600" y="1523880"/>
            <a:ext cx="2362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38Z</dcterms:created>
  <dc:creator>install</dc:creator>
  <dc:description/>
  <dc:language>en-US</dc:language>
  <cp:lastModifiedBy>install</cp:lastModifiedBy>
  <dcterms:modified xsi:type="dcterms:W3CDTF">2011-12-16T16:41:14Z</dcterms:modified>
  <cp:revision>11</cp:revision>
  <dc:subject/>
  <dc:title>Slide 1</dc:title>
</cp:coreProperties>
</file>